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CC9-1407-4BF5-9243-E04DC901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80B-056D-4320-98AB-9E694FD8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7B0-2C7A-4C81-9904-210B776B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97A-9836-4067-9DAE-BFE09F28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E987-5891-48D6-9627-375CB8D4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3017-BD20-4E92-8AEA-038756FD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27C9-406C-4788-A069-97DD26C4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5508-CE79-4E61-9167-C577B0C1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54EE-04F8-4E94-8668-470129F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8A10-718D-4751-B390-82FCEBDB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CC69-BC4C-4CA6-974C-5992E1D1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A5A-4553-4380-8429-3C7EF23C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7901-4AF8-4BA4-8C47-F14181C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B89C-03D8-4EA8-AAD3-D2DD85B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C65A-CC83-40AE-A3AA-CF383F1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DB27-0965-4D10-9A08-B3F304B9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E8D8-6FE9-4D5F-9080-120C6341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C31D-DD04-4DD7-B54E-A751F971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0C94-5A4E-4A0D-AE1A-C8CBC788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AAE5-9BE3-4B20-9E65-AE59D95D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5444-D6B1-4540-9FE1-5C753AC7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0C14-D974-4844-AB26-3D91DA86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A6D-BAB2-4D97-971B-2627738E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D8E3-9C24-48A6-A161-EBC40786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CB4A-DA04-492A-82CB-9D83A10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368E-6C78-4B5D-A5A4-BF2AD400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9A81-2532-4066-91AA-2409D49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6072-450D-49B6-B326-487D46D4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3796-49E7-40F0-B090-94688306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99EB-4251-4789-8D10-02EE08F3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4A15-DC60-41F6-9150-356CD421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2A43-D2C1-412F-A5B6-9986F4BB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69A6-8B1A-4465-B865-C4B6063C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C6A-C14D-4EF0-B9AA-DCE2B2CB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123A-E615-4838-95CE-953ED73B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AE0E9-F080-478E-8280-223DB4CE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E525-0021-4955-9EBB-B6D09C72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A2CD-3DF8-4F33-BFFC-A721A95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15DD-9530-4CAB-B899-50BCD7D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4F95-327E-4026-A4F3-1D412811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BA69-003E-44FD-A4F1-00BC81A8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7B1E-48F0-4DE6-A965-F09AB5F6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EAE3-43EB-4AE7-87D9-24E1C15D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936FB-BA54-453B-9111-92D7BAAA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A70-E285-46BD-BBF3-10C2B472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1FF8D-37E5-4C7B-9C05-5374027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559E-10C7-41DF-9DF7-3875283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289D1-588F-4D1C-A815-E3B8AEDC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443D-D518-49C7-A821-EDE4C393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29A4-B8B8-4740-B276-D5AF9428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E8C9-6079-4D62-BF85-0E735F1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CAE85-0A6D-471E-925A-7AE6C41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CEE34-8AD8-4AF2-B6F2-433928D4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5C976-95E1-463D-9651-224DE14F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4700-E23C-493E-ACBC-684926F0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E9C-F223-4778-B746-46AF21E3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7A07-BFAE-495A-AC61-3CA79719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607D7-A272-4D3B-A56E-3218DD92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8F415-8C18-43A9-AD22-139F2F27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ED17-1CF2-4F06-98A2-A1D6F48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504DA-BA80-49CB-861C-A9D27880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15A40-BFB5-4E54-A868-9D8D4D1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6643-8E15-465E-B52B-80F4A23C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845F3-4CAA-4AAA-9EEF-911AED9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527AC-C47F-4A05-815F-791B7FF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ECDB-B74E-4E15-A666-9DAC121D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D06-BFE3-4EBE-94EA-4BBACBA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8256-F8F1-4C95-81F9-6BF7E420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39ADF-1BE2-495E-AAAE-F24C5440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092A6-7370-4B80-B66E-217A46C3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4F8F-F388-4344-B8D9-69BEF797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42BD4-328F-4872-A14F-425A9FC8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DA434-93A0-466D-9C44-295C8968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10FDE-1CFF-44FF-8C43-F6BF233C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7B5DE-9DEF-42B1-8D90-25615F09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95A4-C8C3-4EAC-B767-E3841D76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8B174-A6D5-431A-A1EB-15B03DD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F35-2816-4C4C-88A6-7C28936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96C1-8C5A-42B6-B5C7-3E23AEE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B6338-A37E-4269-83BD-81E59757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0EE3-CC89-4E01-B026-BA7B879C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35028-2649-4D6D-995B-6A82307C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C9C9C-5547-4DA3-88E6-30B4BE1A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2A733-A38C-4199-AABE-CAA8B0C7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A067-7812-47A1-9A7C-1627B218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54A01-DEB6-4482-8675-B615EB54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AEF50-30B7-4666-98C2-F7BA6381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682A-2594-4CF1-A5D8-ED3AEFC9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ABD-D2E0-4F91-8FD8-0FC39E15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DA0FC-EA1A-42B0-A61C-C67F94E8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1A15-5F3D-40E4-B7A4-7C828A9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4129-CC68-4974-9808-F6FCE098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9C3E3-836C-4194-A0BE-7CCB7C5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2ACEE-DECC-40BE-98A6-96E63F0D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05BC-F9C6-4917-8DFA-112F2A0A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B43E4-8F1E-488D-8B5C-70622FDA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2A49-E7CD-429F-BE4F-F8C4119E401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36a7c"/>
              </a:gs>
              <a:gs pos="50000">
                <a:srgbClr val="7ab3c7"/>
              </a:gs>
              <a:gs pos="100000">
                <a:srgbClr val="336a7c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1c9d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84E1-3FFC-4A58-AD87-6C629E57DA7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74C4-B105-4DF5-B54E-FF03ABD0EB2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7D7E-99B9-4850-943B-C28A86273F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51A0-55C8-4A77-8DE5-AA46B064B4D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8609-05FE-4636-86B8-4E6D64F59B2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7BFF-88BB-40DB-ADCA-3E6B5A38FC8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D06A-C046-43F9-A3B8-82C69FC1BEE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3.nl.edu/3c/faculty/virtual.cfm" TargetMode="External"/><Relationship Id="rId2" Type="http://schemas.openxmlformats.org/officeDocument/2006/relationships/hyperlink" Target="http://bookbuilder.cast.org/" TargetMode="External"/><Relationship Id="rId3" Type="http://schemas.openxmlformats.org/officeDocument/2006/relationships/hyperlink" Target="http://www.tolerance.org/" TargetMode="External"/><Relationship Id="rId4" Type="http://schemas.openxmlformats.org/officeDocument/2006/relationships/hyperlink" Target="http://www.tolerance.org/activity/everyone-s-helper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dvocacyinstitute.org/UDL/NCLB.s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785000" cy="275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Presented b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Elena Garcia Ansani- 3C Project Coordin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National-Louis Univers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ontent Placeholder 4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389" name="Title 2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391" name="Title 2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393" name="Title 2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4549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will you develop your NBPTS – ENS action plan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9343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C Project at National-Louis Univers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http://www3.nl.edu/3c/faculty/virtual.cf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ST Book Build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http://bookbuilder.cast.org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aching Tolera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http://www.tolerance.org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Lucida Sans Unicode"/>
                <a:hlinkClick r:id="rId4"/>
              </a:rPr>
              <a:t>http://www.tolerance.org/activity/everyone-s-help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rnersto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a0b0"/>
                </a:solidFill>
                <a:latin typeface="Lucida Sans Unicode"/>
              </a:rPr>
              <a:t>http://thecornerstoneforteachers.com/free-resources/professional-development/nbp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228600"/>
            <a:ext cx="822960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AS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cast.org/index.htm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The CornerSton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thecornerstoneforteachers.com/free-resources/professional-development/nbp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uncil for Exceptional Childr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cec.sped.org/Content/NavigationMenu/ProfessionalDevelopment/ProfessionalStandards/?from=tlcHome#Standard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National Center on Universal Design for Learn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udlcenter.org/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National Universal Design for Learning Task For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advocacyinstitute.org/UDL/NCLB.shtm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Teaching Tolera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tolerance.org/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268200" y="-463680"/>
            <a:ext cx="84250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do you describe your classroom community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do you defin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diversity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do you defin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equity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Elementary and Secondary Education Act (ESEA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Reauthorization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Universal Design for Learn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http://www.advocacyinstitute.org/UDL/NCLB.shtm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What are th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Principles for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Universal Design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for Learning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b3b3b"/>
                </a:solidFill>
                <a:latin typeface="Lucida Sans Unicode"/>
              </a:rPr>
              <a:t>Multiple means of representation,</a:t>
            </a: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 to give diverse learners options for acquiring information and knowledge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b3b3b"/>
                </a:solidFill>
                <a:latin typeface="Lucida Sans Unicode"/>
              </a:rPr>
              <a:t>Multiple means of action and expression,</a:t>
            </a: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 to provide learners options for demonstrating what they know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b3b3b"/>
                </a:solidFill>
                <a:latin typeface="Lucida Sans Unicode"/>
              </a:rPr>
              <a:t>Multiple means of engagement,</a:t>
            </a: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 to tap into learners' interests, offer appropriate challenges, and increase motiv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do you defin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the student profil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for your NBPTS – ENS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portfolio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387" name="Title 2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5838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02:32Z</dcterms:created>
  <dc:creator>elena.garciaansani</dc:creator>
  <dc:description/>
  <dc:language>en-US</dc:language>
  <cp:lastModifiedBy>elena.garciaansani</cp:lastModifiedBy>
  <dcterms:modified xsi:type="dcterms:W3CDTF">2010-11-29T00:34:21Z</dcterms:modified>
  <cp:revision>73</cp:revision>
  <dc:subject/>
  <dc:title>Resources for NBPTS Exceptional Needs Specialist </dc:title>
</cp:coreProperties>
</file>